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4D8-F9C2-45D7-BA8B-8ECEAAC0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F74-AFD5-4800-A6C7-546444A2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536-0C53-4FAE-B105-B519EE7D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76B-67BB-4E3A-B73D-A4416A5C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95C-0FD7-4DB3-8836-593AA13D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98D-2EE8-4A93-9A8E-707B78C6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CC9-0649-42D7-80EC-5DC25007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228-FD52-4643-91D2-9934690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E72-8266-45A7-B92A-02D41AE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FA5-3564-4B6D-83B2-BE3FC41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56A-0173-4F8D-BC44-9077BE4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DA7-ED08-4428-97CD-D178AAD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69A-1C26-4BFB-AEE3-6AB7287B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s make it harder to buy necessities, like food and clot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692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tent"/>
          <p:cNvPicPr/>
          <p:nvPr/>
        </p:nvPicPr>
        <p:blipFill>
          <a:blip r:embed="rId1"/>
          <a:stretch/>
        </p:blipFill>
        <p:spPr>
          <a:xfrm>
            <a:off x="5638680" y="1868400"/>
            <a:ext cx="1533600" cy="951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occer ball.jpg"/>
          <p:cNvPicPr/>
          <p:nvPr/>
        </p:nvPicPr>
        <p:blipFill>
          <a:blip r:embed="rId2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skates"/>
          <p:cNvPicPr/>
          <p:nvPr/>
        </p:nvPicPr>
        <p:blipFill>
          <a:blip r:embed="rId3"/>
          <a:stretch/>
        </p:blipFill>
        <p:spPr>
          <a:xfrm>
            <a:off x="5715000" y="3733920"/>
            <a:ext cx="17524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people live in c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michael buzzell</dc:creator>
  <dc:description/>
  <dc:language>en-US</dc:language>
  <cp:lastModifiedBy>michael buzzell</cp:lastModifiedBy>
  <dcterms:modified xsi:type="dcterms:W3CDTF">2010-12-14T14:39:52Z</dcterms:modified>
  <cp:revision>8</cp:revision>
  <dc:subject/>
  <dc:title>Present Day Russia</dc:title>
</cp:coreProperties>
</file>